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8D2-0023-406F-AAA9-16519571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7CC-B5C8-43E4-BB39-A0CF266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CDF-34AF-428F-85D2-75CAB59B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968-0FCF-4B5E-8678-D1656A79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2575D-A713-4647-90CB-84E6178E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CE01E-817E-442B-8CDC-7055B92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CCA59-E527-4154-A47A-292A763B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2978D-F234-4A39-BDA0-82C4DC1A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22A5-08A8-4606-AEC9-6A5D6B00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A753-F921-466D-9338-229E579D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1B248-5358-46BA-AD7C-A25547B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E46-7B85-4B7D-B66D-5FF76F3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8615-C07E-4ECD-B99B-EF04C8E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2673-0AA0-43B2-9001-E22F19FC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BC39-AEC6-483B-940D-B5AB91E8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7BB8C-30DC-4ED4-A872-020702B3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0AE2-E466-40AA-B096-80523FB3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F16B-8385-4088-BA88-C18BCC14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B8D4-A359-42AA-BA57-8A38F82C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8361-3F21-4780-B766-06CBC760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AC8A-E1A6-4BFC-A343-FBF41AA6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B81F-F958-4966-B71D-DE88AF10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6E5-A18A-45FE-AC5B-9309694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8F6B-84CA-4095-82A6-6C68803E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EA08-3D4A-47D0-848A-F3246EDC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E65A-01DC-445F-B6EF-79D115A6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781E-7475-469F-A78B-127C520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3ADD-5344-4227-90C2-E98BFDB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F656-58CC-4BB0-BC9C-B12A2793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08F0-9395-4A52-9DC2-07D49B4A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CE7AA-862D-4EA3-A010-4D361F9F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8303B-CA99-499B-BAB2-664CA11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3CF7B-C44E-48FB-BFAC-5C526DBE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896-68D3-41EE-B5CD-4597359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BAB0A-9634-46A9-979B-C45BC435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98519-9697-4C3E-8FA0-87CCF02D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504C9-2F48-4E8D-B389-72477D43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72205-9B23-44E2-BF70-359E221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ED235-5A59-4578-B3B9-A96E28AE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513C1-0AF5-43C8-8CF9-9774E4B0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0E9E0-90DD-4A32-85F2-B8A2232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9C0F0-C074-448E-A4CA-D593AAC0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6BEB5-6213-4812-A7FA-A339D99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030-FC90-41BF-A674-75E3B9E6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059-BFA5-4231-876A-2A4C3A00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F5A-6021-4CF2-8C58-28D31EFB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54C-2C86-4C94-BE50-3CC0690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33E-19F2-472F-978A-8AB6138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AF36-CD97-4579-A56F-33B4BA34E4EB}" type="slidenum">
              <a:rPr b="0" lang="en-US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90E5-F3D9-4818-BF57-0DBDF5D36159}" type="slidenum">
              <a:rPr b="0" lang="en-US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9B18-7E56-4FB9-BF62-BEBC36B4A462}" type="slidenum">
              <a:rPr b="0" lang="en-US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B3F8-4258-4113-B74B-D484E8623D2F}" type="slidenum">
              <a:rPr b="0" lang="en-US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9" descr="рамка.png"/>
          <p:cNvPicPr/>
          <p:nvPr/>
        </p:nvPicPr>
        <p:blipFill>
          <a:blip r:embed="rId2"/>
          <a:stretch/>
        </p:blipFill>
        <p:spPr>
          <a:xfrm>
            <a:off x="-214200" y="-285840"/>
            <a:ext cx="9532800" cy="714384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3" descr=""/>
          <p:cNvPicPr/>
          <p:nvPr/>
        </p:nvPicPr>
        <p:blipFill>
          <a:blip r:embed="rId3"/>
          <a:stretch/>
        </p:blipFill>
        <p:spPr>
          <a:xfrm>
            <a:off x="4138560" y="1054080"/>
            <a:ext cx="4633920" cy="3164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6" descr="рамка5.png"/>
          <p:cNvPicPr/>
          <p:nvPr/>
        </p:nvPicPr>
        <p:blipFill>
          <a:blip r:embed="rId2"/>
          <a:stretch/>
        </p:blipFill>
        <p:spPr>
          <a:xfrm>
            <a:off x="0" y="0"/>
            <a:ext cx="92566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1457280" y="2214720"/>
            <a:ext cx="55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Любимой мам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освящаетс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pic>
        <p:nvPicPr>
          <p:cNvPr id="201" name="Picture 2" descr="E:\Documents and Settings\minina\Рабочий стол\рамка4.jpg"/>
          <p:cNvPicPr/>
          <p:nvPr/>
        </p:nvPicPr>
        <p:blipFill>
          <a:blip r:embed="rId2"/>
          <a:stretch/>
        </p:blipFill>
        <p:spPr>
          <a:xfrm>
            <a:off x="-214200" y="-244440"/>
            <a:ext cx="9358200" cy="77500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1143000" y="428760"/>
            <a:ext cx="67867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Господь, храни моих детей!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Когда придет мой смертный час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прервёт черёд унылых дней.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- Господь,- скажу в последний раз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-Ты сохрани моих детей!-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Не сладко жизнь моя тек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врагов встречала и друзей,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Но цель была всегда одна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чтоб сохранить моих детей.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Мирской поток - я в нём плыв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одна в пучине тяжких дней,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И об одном молясь прош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 –</a:t>
            </a:r>
            <a:r>
              <a:rPr b="1" lang="en-US" sz="2800" spc="-1" strike="noStrike">
                <a:solidFill>
                  <a:srgbClr val="7030a0"/>
                </a:solidFill>
                <a:latin typeface="Franklin Gothic Book"/>
              </a:rPr>
              <a:t>Господь, храни моих дете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pic>
        <p:nvPicPr>
          <p:cNvPr id="204" name="Пусть всегда будет солнце 0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61007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1007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6100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E:\Documents and Settings\minina\Рабочий стол\Рамка3.jpg"/>
          <p:cNvPicPr/>
          <p:nvPr/>
        </p:nvPicPr>
        <p:blipFill>
          <a:blip r:embed="rId2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 rot="21171600">
            <a:off x="261720" y="821880"/>
            <a:ext cx="437652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53a1"/>
                </a:solidFill>
                <a:latin typeface="Franklin Gothic Book"/>
              </a:rPr>
              <a:t>…</a:t>
            </a:r>
            <a:r>
              <a:rPr b="1" lang="en-US" sz="2600" spc="-1" strike="noStrike">
                <a:solidFill>
                  <a:srgbClr val="7153a1"/>
                </a:solidFill>
                <a:latin typeface="Franklin Gothic Book"/>
              </a:rPr>
              <a:t>За день до своего рождения ребенок спросил у Бога:</a:t>
            </a:r>
            <a:br>
              <a:rPr sz="2600"/>
            </a:br>
            <a:r>
              <a:rPr b="1" lang="en-US" sz="2600" spc="-1" strike="noStrike">
                <a:solidFill>
                  <a:srgbClr val="7153a1"/>
                </a:solidFill>
                <a:latin typeface="Franklin Gothic Book"/>
              </a:rPr>
              <a:t>- Я не знаю, зачем я иду в этот мир. Что я должен делать?</a:t>
            </a:r>
            <a:br>
              <a:rPr sz="2600"/>
            </a:br>
            <a:r>
              <a:rPr b="1" lang="en-US" sz="2600" spc="-1" strike="noStrike">
                <a:solidFill>
                  <a:srgbClr val="7153a1"/>
                </a:solidFill>
                <a:latin typeface="Franklin Gothic Book"/>
              </a:rPr>
              <a:t>Бог ответил: </a:t>
            </a:r>
            <a:br>
              <a:rPr sz="2600"/>
            </a:br>
            <a:r>
              <a:rPr b="1" lang="en-US" sz="2600" spc="-1" strike="noStrike">
                <a:solidFill>
                  <a:srgbClr val="7153a1"/>
                </a:solidFill>
                <a:latin typeface="Franklin Gothic Book"/>
              </a:rPr>
              <a:t>- Я подарю тебе ангела, который всегда будет рядом с тобой. Он все тебе объяснит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Прямоугольник 6"/>
          <p:cNvSpPr/>
          <p:nvPr/>
        </p:nvSpPr>
        <p:spPr>
          <a:xfrm rot="757800">
            <a:off x="4714200" y="509040"/>
            <a:ext cx="4329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Но как я пойму е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ведь я не знаю его язык?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- Ангел будет учить тебя своему языку. Он будет охранять тебя от всех бед.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- Как и когда я должен вернуться к тебе?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- Твой ангел скажет тебе все.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- А как зовут моего ангела?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- Неважно как его зовут, у него много имен. Но ты пока будешь называть его – ма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6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E:\Documents and Settings\minina\Рабочий стол\Мамы 3 Г\Галустова Оксана Тахировна.jpg"/>
          <p:cNvPicPr/>
          <p:nvPr/>
        </p:nvPicPr>
        <p:blipFill>
          <a:blip r:embed="rId2"/>
          <a:stretch/>
        </p:blipFill>
        <p:spPr>
          <a:xfrm rot="604200">
            <a:off x="7233840" y="4597560"/>
            <a:ext cx="1285920" cy="1971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Бабанина Ольга Юрьевна.jpg"/>
          <p:cNvPicPr/>
          <p:nvPr/>
        </p:nvPicPr>
        <p:blipFill>
          <a:blip r:embed="rId3"/>
          <a:stretch/>
        </p:blipFill>
        <p:spPr>
          <a:xfrm>
            <a:off x="4071960" y="285840"/>
            <a:ext cx="1285920" cy="1947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Дарбаидзе.jpg"/>
          <p:cNvPicPr/>
          <p:nvPr/>
        </p:nvPicPr>
        <p:blipFill>
          <a:blip r:embed="rId4"/>
          <a:stretch/>
        </p:blipFill>
        <p:spPr>
          <a:xfrm rot="574200">
            <a:off x="2693520" y="4555800"/>
            <a:ext cx="1662120" cy="16066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Зоболева Елена Геннадьевна.jpg"/>
          <p:cNvPicPr/>
          <p:nvPr/>
        </p:nvPicPr>
        <p:blipFill>
          <a:blip r:embed="rId5"/>
          <a:stretch/>
        </p:blipFill>
        <p:spPr>
          <a:xfrm rot="20960400">
            <a:off x="4714920" y="4786200"/>
            <a:ext cx="1660320" cy="18525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8" descr="Кузнецова Светлана михайловна.jpg"/>
          <p:cNvPicPr/>
          <p:nvPr/>
        </p:nvPicPr>
        <p:blipFill>
          <a:blip r:embed="rId6"/>
          <a:stretch/>
        </p:blipFill>
        <p:spPr>
          <a:xfrm rot="522000">
            <a:off x="6214680" y="88560"/>
            <a:ext cx="1325520" cy="19940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Золотова оксана Владимировна.JPG"/>
          <p:cNvPicPr/>
          <p:nvPr/>
        </p:nvPicPr>
        <p:blipFill>
          <a:blip r:embed="rId7"/>
          <a:stretch/>
        </p:blipFill>
        <p:spPr>
          <a:xfrm rot="20878800">
            <a:off x="2587320" y="1028880"/>
            <a:ext cx="1143000" cy="16538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Беседина Елена Геннадьевна и Рекуц Наталья Васильевна.JPG"/>
          <p:cNvPicPr/>
          <p:nvPr/>
        </p:nvPicPr>
        <p:blipFill>
          <a:blip r:embed="rId8"/>
          <a:stretch/>
        </p:blipFill>
        <p:spPr>
          <a:xfrm>
            <a:off x="3643200" y="2786040"/>
            <a:ext cx="2500560" cy="1443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E:\Documents and Settings\minina\Мои документы\Мои рисунки\Мои сканированные изображения\2011-11 (ноя)\Никифорова.jpg"/>
          <p:cNvPicPr/>
          <p:nvPr/>
        </p:nvPicPr>
        <p:blipFill>
          <a:blip r:embed="rId9"/>
          <a:stretch/>
        </p:blipFill>
        <p:spPr>
          <a:xfrm>
            <a:off x="7143840" y="2286000"/>
            <a:ext cx="16905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E:\Documents and Settings\minina\Мои документы\Мои рисунки\Мои сканированные изображения\2011-11 (ноя)\Кругова.jpg"/>
          <p:cNvPicPr/>
          <p:nvPr/>
        </p:nvPicPr>
        <p:blipFill>
          <a:blip r:embed="rId10"/>
          <a:stretch/>
        </p:blipFill>
        <p:spPr>
          <a:xfrm rot="20890800">
            <a:off x="760320" y="4547880"/>
            <a:ext cx="1363680" cy="1984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E:\Documents and Settings\minina\Мои документы\Мои рисунки\Мои сканированные изображения\2011-11 (ноя)\Толкуновы.jpg"/>
          <p:cNvPicPr/>
          <p:nvPr/>
        </p:nvPicPr>
        <p:blipFill>
          <a:blip r:embed="rId11"/>
          <a:stretch/>
        </p:blipFill>
        <p:spPr>
          <a:xfrm rot="693600">
            <a:off x="568440" y="2644920"/>
            <a:ext cx="2315880" cy="16333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1" descr="сканирование0004.jpg"/>
          <p:cNvPicPr/>
          <p:nvPr/>
        </p:nvPicPr>
        <p:blipFill>
          <a:blip r:embed="rId12"/>
          <a:stretch/>
        </p:blipFill>
        <p:spPr>
          <a:xfrm rot="20659200">
            <a:off x="785880" y="285480"/>
            <a:ext cx="1284120" cy="1965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Гагарин 1.jpg"/>
          <p:cNvPicPr/>
          <p:nvPr/>
        </p:nvPicPr>
        <p:blipFill>
          <a:blip r:embed="rId2"/>
          <a:stretch/>
        </p:blipFill>
        <p:spPr>
          <a:xfrm rot="20812200">
            <a:off x="785520" y="571680"/>
            <a:ext cx="2928960" cy="35478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187" name="Рисунок 4" descr="Гагарин 2.jpg"/>
          <p:cNvPicPr/>
          <p:nvPr/>
        </p:nvPicPr>
        <p:blipFill>
          <a:blip r:embed="rId3"/>
          <a:stretch/>
        </p:blipFill>
        <p:spPr>
          <a:xfrm rot="287400">
            <a:off x="4505400" y="353880"/>
            <a:ext cx="3535200" cy="4662720"/>
          </a:xfrm>
          <a:prstGeom prst="rect">
            <a:avLst/>
          </a:prstGeom>
          <a:ln w="41400">
            <a:solidFill>
              <a:srgbClr val="00b0f0"/>
            </a:solidFill>
            <a:bevel/>
          </a:ln>
        </p:spPr>
      </p:pic>
      <p:sp>
        <p:nvSpPr>
          <p:cNvPr id="188" name="TextBox 5"/>
          <p:cNvSpPr/>
          <p:nvPr/>
        </p:nvSpPr>
        <p:spPr>
          <a:xfrm>
            <a:off x="1143000" y="48578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ranklin Gothic Book"/>
              </a:rPr>
              <a:t>Мама первого космонав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ranklin Gothic Book"/>
              </a:rPr>
              <a:t>Юрия Алексеевича Гагарина-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ranklin Gothic Book"/>
              </a:rPr>
              <a:t>Анна Тимофе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Карпова Анна Ивановна.jpg"/>
          <p:cNvPicPr/>
          <p:nvPr/>
        </p:nvPicPr>
        <p:blipFill>
          <a:blip r:embed="rId2"/>
          <a:stretch/>
        </p:blipFill>
        <p:spPr>
          <a:xfrm rot="20829000">
            <a:off x="571320" y="1146240"/>
            <a:ext cx="3004920" cy="35528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сканирование0010.jpg"/>
          <p:cNvPicPr/>
          <p:nvPr/>
        </p:nvPicPr>
        <p:blipFill>
          <a:blip r:embed="rId3"/>
          <a:stretch/>
        </p:blipFill>
        <p:spPr>
          <a:xfrm rot="557400">
            <a:off x="4652640" y="807840"/>
            <a:ext cx="3098880" cy="21477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Рекуц Наталья Васильевна.jpg"/>
          <p:cNvPicPr/>
          <p:nvPr/>
        </p:nvPicPr>
        <p:blipFill>
          <a:blip r:embed="rId4"/>
          <a:stretch/>
        </p:blipFill>
        <p:spPr>
          <a:xfrm rot="21051600">
            <a:off x="4214880" y="3785760"/>
            <a:ext cx="357192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деревня 2.JPG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3" descr="ночь горные тропы.jpg"/>
          <p:cNvPicPr/>
          <p:nvPr/>
        </p:nvPicPr>
        <p:blipFill>
          <a:blip r:embed="rId2"/>
          <a:stretch/>
        </p:blipFill>
        <p:spPr>
          <a:xfrm>
            <a:off x="285840" y="-573120"/>
            <a:ext cx="9286920" cy="94964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деревня 2.JPG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pic>
        <p:nvPicPr>
          <p:cNvPr id="197" name="Содержимое 7" descr="ученый.jpg"/>
          <p:cNvPicPr/>
          <p:nvPr/>
        </p:nvPicPr>
        <p:blipFill>
          <a:blip r:embed="rId2"/>
          <a:stretch/>
        </p:blipFill>
        <p:spPr>
          <a:xfrm>
            <a:off x="-1154160" y="0"/>
            <a:ext cx="9941040" cy="661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1T09:13:55Z</dcterms:modified>
  <cp:revision>28</cp:revision>
  <dc:subject/>
  <dc:title>27 нояря </dc:title>
</cp:coreProperties>
</file>